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1B3C-8FD0-437A-B422-4B2E2905C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All_men_are_created_equal" TargetMode="External"/><Relationship Id="rId2" Type="http://schemas.openxmlformats.org/officeDocument/2006/relationships/hyperlink" Target="http://en.wikipedia.org/wiki/Life,_liberty_and_the_pursuit_of_happiness" TargetMode="External"/><Relationship Id="rId3" Type="http://schemas.openxmlformats.org/officeDocument/2006/relationships/slide" Target="../slides/slide11.xml"/><Relationship Id="rId4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7C0F-8555-4303-9A25-397C3A08C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804C-D54E-461E-AA3E-F43760225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A9AE-97E2-4638-9E22-91FD46CE5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old these truths to be self-evident, that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ll men are created equ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at they are endowed by their Creator with certain unalienable Rights, that among these are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Life, Liberty and the pursuit of Happine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Jeffers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E9994-06A3-46F6-9C2D-37C377414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ot farmers &amp; townspeople had begun to drill with muskets ready to pick up their gun’s on a minute not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2377B-5607-4D07-AB69-784C19AD6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C6F5A-6F8A-4C09-9D85-F321DAE195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upted from problems of revenue collection…common to all major powers after the seven years’ w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ed conflict between France &amp; Great Brit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, the french support of the Americans deepened the existing financial and administrative difficulties of the French monarch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E313-8427-42AF-817D-59C33BA18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itish government collected revenue through a variety of unpopular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342A-CA70-4189-A532-F8FE5F1A5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LY opposed to the stamp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the Stamp Act congress in October 17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ew up protest to cr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d mostly by the Son’s of Liberty (Mass) refused to import goo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atatory Act =&gt; England had the power to legislate colon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194A2-8396-4DA8-BA3F-08DA7EBBC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ns resisted y reasoned argument, economic pressure, &amp; violence/Britain would repeal and the process would start all over ag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869E5-5994-4745-9758-3631C2995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a fountain/water compan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5DBD-7C14-4AA6-8532-D5A0AD1E0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mped tea into the Harbor for 3 hours…so much tea was poured that it piled up in waters and spilled back onto the decks of the ships were it was shoveled back 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05B11-880B-487F-AFB1-F15B5F8753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bec Act~~ extended boundaries of Quebec to Ohio River Valley…to prevent more outbrea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926A-9F10-4556-8A97-4BE436AD5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FD39-2FBC-478F-9DBF-0EC25734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97CF-424B-493D-84EA-7E55DF505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4760-F9A3-4561-87A9-76920389A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E3C0-18C6-48C5-AC0E-FC1E165A1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EB52-4385-4E46-99E1-FF246B41F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1507-8FFF-41F8-B457-E338E190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22D0-A383-403C-B116-8D275ABA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7878-FB33-4A4A-81FA-EBFA34F3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24F4-637B-4D0D-BBD5-54B641B4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DD09-577B-4245-BED6-76EF3718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9FC9-3DE6-4EEB-9F96-A1004DE6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DCE99-B319-4C8C-A22F-B35E77D09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8180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430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merican R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ental Cong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tember 5th to October 26, 177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st Continental Congress~ Formed in response to intolerable a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 Hoped to persuade Parliament to restore self-government in colonies &amp; abandon direct superv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Made up of 2 delegates from every colony except Geor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inental Cong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1775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Continental Con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opted Deceleration of In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declarationindep"/>
          <p:cNvPicPr/>
          <p:nvPr/>
        </p:nvPicPr>
        <p:blipFill>
          <a:blip r:embed="rId1"/>
          <a:stretch/>
        </p:blipFill>
        <p:spPr>
          <a:xfrm>
            <a:off x="685800" y="2714760"/>
            <a:ext cx="3809880" cy="2647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t Heard Round the World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 April 17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 Battle of Lexington &amp; Con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 Minute 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battle1"/>
          <p:cNvPicPr/>
          <p:nvPr/>
        </p:nvPicPr>
        <p:blipFill>
          <a:blip r:embed="rId1"/>
          <a:stretch/>
        </p:blipFill>
        <p:spPr>
          <a:xfrm>
            <a:off x="685800" y="2604960"/>
            <a:ext cx="3809880" cy="2867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ist ~ American Revolution was fought for liberties that Americans believed they already possessed as British citize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dical~ transfer of power from a distant British elite to a homegrown American power class that wanted to consolidate its hold over the wealth of the contine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at Britain’s government had 2 MAJOR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er Cost =&gt; couldn’t pay it on their own; their debt rose, so they raised taxes on the colo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eer Size=&gt; Vast expansion of new territory made it hard to contro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501480" y="350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Sugar &amp; Stamps Have To Do With Rev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ar Act~ George Grenville---&gt; placed taxes on sugar, coffee, wines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d more revenue from imports into colonies by a collection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sugar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Sugar &amp; Stamps Have To Do With Rev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mp Act~ tax on all printed material including newspapers, playing cards, &amp; legal docu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66=&gt; repealed Stamp Act BUT created the Declatatory 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forever_stamp1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ous Word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axation Without Represent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mes Otis (Mass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d that it was unfair to be heavily taxed if the citizens of the colonies could not be represented in govern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otis"/>
          <p:cNvPicPr/>
          <p:nvPr/>
        </p:nvPicPr>
        <p:blipFill>
          <a:blip r:embed="rId1"/>
          <a:stretch/>
        </p:blipFill>
        <p:spPr>
          <a:xfrm>
            <a:off x="3790800" y="1981080"/>
            <a:ext cx="1562400" cy="1981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s It Really a Massac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Sent troops in to protect officials wh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nistered the Townsend A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Troops = competiton for jobs &amp; ang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oun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March 5th ~ 5 citizens died….total =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ston Massac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ston Tea Pa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1773~Parliament granted legal monopoly tea shipment to Ame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December 16, 1773~ 150 men from all layers of the economy, blackened their faces with burnt cork, dressed as Mohawk Indians &amp; boarded three shi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teaparty"/>
          <p:cNvPicPr/>
          <p:nvPr/>
        </p:nvPicPr>
        <p:blipFill>
          <a:blip r:embed="rId1"/>
          <a:stretch/>
        </p:blipFill>
        <p:spPr>
          <a:xfrm>
            <a:off x="1981080" y="4114800"/>
            <a:ext cx="4724640" cy="1981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ed the Intolerable 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Closed the port of Bos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Reorganized the government of M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Allowed quartering of sold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Removed trials of royal cust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8T02:20:15Z</dcterms:created>
  <dc:creator>Kristy Ventre</dc:creator>
  <dc:description/>
  <cp:keywords/>
  <dc:language>en-US</dc:language>
  <cp:lastModifiedBy>Christina Varghese</cp:lastModifiedBy>
  <cp:lastPrinted>2008-10-08T11:54:34Z</cp:lastPrinted>
  <dcterms:modified xsi:type="dcterms:W3CDTF">2010-12-06T02:27:03Z</dcterms:modified>
  <cp:revision>5</cp:revision>
  <dc:subject/>
  <dc:title>PowerPoint Presentation</dc:title>
</cp:coreProperties>
</file>